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28.jpeg" ContentType="image/jpeg"/>
  <Override PartName="/ppt/media/image51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63.jpeg" ContentType="image/jpeg"/>
  <Override PartName="/ppt/media/image27.png" ContentType="image/png"/>
  <Override PartName="/ppt/media/image33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1A3-729B-456E-8A9C-BBE9B57B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1AF-0E80-47A6-A9E0-9B47E7A1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B50-3A9C-496F-B1DB-2273C7B8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B37-0572-42C6-9250-35494FBB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2A0-731B-4982-A79F-949C679F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237-A8AD-469F-96FA-9DA073B9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EBD-9821-4160-A08D-7BCE56A6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A6D-8021-46B9-92ED-C0C0E130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B7C-0EE6-4503-BC28-4D287F8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3FD-F8F5-4042-A55D-9F6711F6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4A3-6C54-4239-85DF-39FF94B6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432-BD36-4DFA-837D-5760182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870-0E56-451B-8189-9C77F87217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ногообразие и характеристика мелких млекопит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00" y="2311560"/>
            <a:ext cx="3743280" cy="2512800"/>
            <a:chOff x="324000" y="2311560"/>
            <a:chExt cx="3743280" cy="2512800"/>
          </a:xfrm>
        </p:grpSpPr>
        <p:sp>
          <p:nvSpPr>
            <p:cNvPr id="43" name=""/>
            <p:cNvSpPr/>
            <p:nvPr/>
          </p:nvSpPr>
          <p:spPr>
            <a:xfrm>
              <a:off x="350640" y="2338560"/>
              <a:ext cx="3688920" cy="245844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4000" y="2311560"/>
              <a:ext cx="3743280" cy="251280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724360" y="2205000"/>
            <a:ext cx="2951280" cy="2951280"/>
            <a:chOff x="5724360" y="2205000"/>
            <a:chExt cx="2951280" cy="2951280"/>
          </a:xfrm>
        </p:grpSpPr>
        <p:sp>
          <p:nvSpPr>
            <p:cNvPr id="46" name=""/>
            <p:cNvSpPr/>
            <p:nvPr/>
          </p:nvSpPr>
          <p:spPr>
            <a:xfrm>
              <a:off x="5749200" y="2230200"/>
              <a:ext cx="2900880" cy="290088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4360" y="2205000"/>
              <a:ext cx="2951280" cy="2951280"/>
            </a:xfrm>
            <a:custGeom>
              <a:avLst/>
              <a:gdLst/>
              <a:ahLst/>
              <a:rect l="l" t="t" r="r" b="b"/>
              <a:pathLst>
                <a:path w="3047" h="3047">
                  <a:moveTo>
                    <a:pt x="2835" y="0"/>
                  </a:moveTo>
                  <a:lnTo>
                    <a:pt x="3047" y="211"/>
                  </a:lnTo>
                  <a:lnTo>
                    <a:pt x="3047" y="2835"/>
                  </a:lnTo>
                  <a:lnTo>
                    <a:pt x="2835" y="3047"/>
                  </a:lnTo>
                  <a:lnTo>
                    <a:pt x="211" y="3047"/>
                  </a:lnTo>
                  <a:lnTo>
                    <a:pt x="0" y="2835"/>
                  </a:lnTo>
                  <a:lnTo>
                    <a:pt x="0" y="211"/>
                  </a:lnTo>
                  <a:lnTo>
                    <a:pt x="211" y="0"/>
                  </a:lnTo>
                  <a:lnTo>
                    <a:pt x="3047" y="0"/>
                  </a:lnTo>
                  <a:lnTo>
                    <a:pt x="3047" y="3047"/>
                  </a:lnTo>
                  <a:lnTo>
                    <a:pt x="0" y="30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627280" y="3728880"/>
            <a:ext cx="36003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иод размно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ножение:2-3 раза в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4 детеныша: открытые глаз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р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самец и несколько сам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676680" cy="3130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54464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ирийский золотистый хомяч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989000"/>
            <a:ext cx="6192720" cy="249876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мейство Мышиные, подсемейство Хомяков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на – Си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и мордочка - овальная, лапки маленькие, короткий хвос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рсть мягкая и короткая, защечные меш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ительность жизни: около 3-х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472200">
            <a:off x="6516720" y="1267920"/>
            <a:ext cx="2397240" cy="183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21002400">
            <a:off x="684000" y="4292280"/>
            <a:ext cx="2087280" cy="237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017880" cy="2379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rot="20638200">
            <a:off x="418680" y="129816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укты, овощи, зеленые листья, семена, мясо и насеко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годится: семена подсолнуха, листья салата, копченную колбасу или соленные огурц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Только здоровая пищ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435040" cy="1471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404400">
            <a:off x="7093080" y="189000"/>
            <a:ext cx="1782720" cy="15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20956200">
            <a:off x="331920" y="4168440"/>
            <a:ext cx="1811160" cy="237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 rot="874800">
            <a:off x="6597360" y="387936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484360" y="4827600"/>
            <a:ext cx="388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2133720"/>
            <a:ext cx="4105440" cy="273672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топлот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асл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олюб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а физическая нагру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20785800">
            <a:off x="395280" y="520200"/>
            <a:ext cx="2473200" cy="2403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886200">
            <a:off x="6156360" y="476280"/>
            <a:ext cx="2489040" cy="2336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003640" y="4538520"/>
            <a:ext cx="3443400" cy="2256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4360" y="4430880"/>
            <a:ext cx="24112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иод размно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1916280"/>
            <a:ext cx="4968720" cy="2592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205000"/>
            <a:ext cx="261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ножение до 2-х лет, 2-3 р. в го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3 детенышей: слепые, голые, беспомощ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самец и 1 са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84840" y="1916280"/>
            <a:ext cx="3170160" cy="324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4465800" cy="213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244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 млекопитающих, отряд зайцеобразных, семейство зайцев, подсемейство удвоеннорезцов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на – Исп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ительность жизни: 7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аска различная, передние лапы короче, чем задние, уши вытянутые, короткий хвост, подвижные и большие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255420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2197440" cy="2208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638360" cy="20620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50920" y="115920"/>
            <a:ext cx="1584360" cy="1584360"/>
            <a:chOff x="250920" y="115920"/>
            <a:chExt cx="1584360" cy="1584360"/>
          </a:xfrm>
        </p:grpSpPr>
        <p:sp>
          <p:nvSpPr>
            <p:cNvPr id="180" name=""/>
            <p:cNvSpPr/>
            <p:nvPr/>
          </p:nvSpPr>
          <p:spPr>
            <a:xfrm>
              <a:off x="264240" y="129240"/>
              <a:ext cx="1557360" cy="1557360"/>
            </a:xfrm>
            <a:prstGeom prst="octagon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920" y="115920"/>
              <a:ext cx="1584360" cy="1584360"/>
            </a:xfrm>
            <a:custGeom>
              <a:avLst/>
              <a:gdLst/>
              <a:ahLst/>
              <a:rect l="l" t="t" r="r" b="b"/>
              <a:pathLst>
                <a:path w="3047" h="3047">
                  <a:moveTo>
                    <a:pt x="2835" y="0"/>
                  </a:moveTo>
                  <a:lnTo>
                    <a:pt x="3047" y="211"/>
                  </a:lnTo>
                  <a:lnTo>
                    <a:pt x="3047" y="2835"/>
                  </a:lnTo>
                  <a:lnTo>
                    <a:pt x="2835" y="3047"/>
                  </a:lnTo>
                  <a:lnTo>
                    <a:pt x="211" y="3047"/>
                  </a:lnTo>
                  <a:lnTo>
                    <a:pt x="0" y="2835"/>
                  </a:lnTo>
                  <a:lnTo>
                    <a:pt x="0" y="211"/>
                  </a:lnTo>
                  <a:lnTo>
                    <a:pt x="211" y="0"/>
                  </a:lnTo>
                  <a:lnTo>
                    <a:pt x="3047" y="0"/>
                  </a:lnTo>
                  <a:lnTo>
                    <a:pt x="3047" y="3047"/>
                  </a:lnTo>
                  <a:lnTo>
                    <a:pt x="0" y="30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686800" y="6125760"/>
            <a:ext cx="13320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2016360" cy="107964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ле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852640"/>
            <a:ext cx="1655640" cy="792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2924280"/>
            <a:ext cx="180036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692280"/>
            <a:ext cx="309528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рм живот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1413000"/>
            <a:ext cx="201600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ами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960400">
            <a:off x="5724360" y="5157720"/>
            <a:ext cx="2160720" cy="576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4941720"/>
            <a:ext cx="2449440" cy="936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концентрирова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421000"/>
            <a:ext cx="2808000" cy="19429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Пит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322000">
            <a:off x="3141360" y="4173120"/>
            <a:ext cx="576360" cy="792360"/>
          </a:xfrm>
          <a:prstGeom prst="downArrow">
            <a:avLst>
              <a:gd name="adj1" fmla="val 50000"/>
              <a:gd name="adj2" fmla="val 3436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169600">
            <a:off x="5795640" y="4149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457720" y="2791440"/>
            <a:ext cx="590400" cy="684360"/>
          </a:xfrm>
          <a:prstGeom prst="downArrow">
            <a:avLst>
              <a:gd name="adj1" fmla="val 50000"/>
              <a:gd name="adj2" fmla="val 2897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2924280"/>
            <a:ext cx="505080" cy="504720"/>
          </a:xfrm>
          <a:prstGeom prst="rightArrow">
            <a:avLst>
              <a:gd name="adj1" fmla="val 50000"/>
              <a:gd name="adj2" fmla="val 25018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1557360"/>
            <a:ext cx="647640" cy="792000"/>
          </a:xfrm>
          <a:prstGeom prst="upArrow">
            <a:avLst>
              <a:gd name="adj1" fmla="val 50000"/>
              <a:gd name="adj2" fmla="val 30573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315000">
            <a:off x="5752080" y="1733760"/>
            <a:ext cx="460440" cy="900000"/>
          </a:xfrm>
          <a:prstGeom prst="upArrow">
            <a:avLst>
              <a:gd name="adj1" fmla="val 50000"/>
              <a:gd name="adj2" fmla="val 4886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8928200">
            <a:off x="2843280" y="1557000"/>
            <a:ext cx="431640" cy="1079640"/>
          </a:xfrm>
          <a:prstGeom prst="upArrow">
            <a:avLst>
              <a:gd name="adj1" fmla="val 50000"/>
              <a:gd name="adj2" fmla="val 62531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19640" y="4869000"/>
            <a:ext cx="235080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093760" cy="1270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1595160" cy="168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3645000"/>
            <a:ext cx="1757520" cy="143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36692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иод размн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1916280"/>
            <a:ext cx="4032360" cy="22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ножение 1-3 р. в г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9 крольч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самец и 1 сам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27640" y="3933720"/>
            <a:ext cx="4356000" cy="2494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603520" cy="226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300720" y="1125360"/>
            <a:ext cx="2651040" cy="2275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2376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елая мыш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ные острые передние зубы, крупные глаза и уш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ительные усики, длинный хвост, окраска различна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 – 2 г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топлотны, умны, жизнерадостные, любопытны, бесстраш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ножение: в год – до 70 мыша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еныши слепые, глухие, гол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740720" y="1700280"/>
            <a:ext cx="1258920" cy="81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785960" cy="920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948360" y="333360"/>
            <a:ext cx="1649520" cy="1055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3166920" cy="21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 rot="846600">
            <a:off x="7308720" y="3860280"/>
            <a:ext cx="1322640" cy="183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 rot="20461200">
            <a:off x="755280" y="4724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611280" y="189000"/>
            <a:ext cx="1181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1617480" cy="1227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1562040" cy="1452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1366920" cy="1050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588000" y="3068640"/>
            <a:ext cx="1368720" cy="816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2987640" y="5013360"/>
            <a:ext cx="2844720" cy="1393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564000" y="2852640"/>
            <a:ext cx="1584360" cy="1081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1341360"/>
            <a:ext cx="172872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о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4292640"/>
            <a:ext cx="1513080" cy="1008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р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4508640"/>
            <a:ext cx="2592360" cy="1584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гет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енный ри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шк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пш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1413000"/>
            <a:ext cx="3024360" cy="158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очные продук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ленная и острая пи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1557360"/>
            <a:ext cx="1295640" cy="11509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267640" y="2277000"/>
            <a:ext cx="1295280" cy="1150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4290600">
            <a:off x="5436000" y="3213720"/>
            <a:ext cx="1295280" cy="1150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2629080" y="3931920"/>
            <a:ext cx="1295280" cy="1150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692280"/>
            <a:ext cx="2016000" cy="79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откошёрс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4797360"/>
            <a:ext cx="2808360" cy="150984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ношёр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уан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г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л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1989000"/>
            <a:ext cx="2232000" cy="86364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дкошёр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г.Сел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г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941720"/>
            <a:ext cx="2305080" cy="107964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сткошёр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биссин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г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4640"/>
            <a:ext cx="1800000" cy="72072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к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укол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7750200">
            <a:off x="1980000" y="3932280"/>
            <a:ext cx="1296720" cy="790920"/>
          </a:xfrm>
          <a:custGeom>
            <a:avLst/>
            <a:gdLst>
              <a:gd name="textAreaLeft" fmla="*/ 162000 w 1296720"/>
              <a:gd name="textAreaRight" fmla="*/ 1134720 w 1296720"/>
              <a:gd name="textAreaTop" fmla="*/ 197640 h 790920"/>
              <a:gd name="textAreaBottom" fmla="*/ 593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38800">
            <a:off x="4859280" y="407664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318400">
            <a:off x="4932360" y="242064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088000">
            <a:off x="3742560" y="152100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3929600">
            <a:off x="2086560" y="181008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54400" y="2637000"/>
            <a:ext cx="1585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лая кры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ные острые передние зубы, крупные глаза и уш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ительные усики, длинный хвост, окраска различна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: 2-3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ны, спокойны, чистоплотны, дружелюбны, отважны, бесстрашны, неприхотливые, спортсме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ножение 7раз в год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детенышей: голые, слеп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31960" cy="1473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240000" cy="2303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31640" cy="194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24360" y="2781360"/>
            <a:ext cx="1512720" cy="86508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620640"/>
            <a:ext cx="1873440" cy="5749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а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789360"/>
            <a:ext cx="1656000" cy="576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о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869000"/>
            <a:ext cx="1727280" cy="1224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ю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фрук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окк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3357720"/>
            <a:ext cx="1079640" cy="1009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с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89000"/>
            <a:ext cx="1944720" cy="158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ренны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ч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а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198520" cy="2349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1968480" cy="155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732720" y="4653000"/>
            <a:ext cx="1695240" cy="1660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7373880" y="1125360"/>
            <a:ext cx="1581120" cy="2232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rot="5400000">
            <a:off x="4212360" y="3717000"/>
            <a:ext cx="863640" cy="1008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958600">
            <a:off x="2574720" y="3143160"/>
            <a:ext cx="1296720" cy="1008000"/>
          </a:xfrm>
          <a:custGeom>
            <a:avLst/>
            <a:gdLst>
              <a:gd name="textAreaLeft" fmla="*/ 162000 w 1296720"/>
              <a:gd name="textAreaRight" fmla="*/ 1134720 w 129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3987800">
            <a:off x="3419280" y="1412280"/>
            <a:ext cx="1297080" cy="100800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154800">
            <a:off x="5292000" y="1700640"/>
            <a:ext cx="863640" cy="1008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34600">
            <a:off x="5508360" y="3068280"/>
            <a:ext cx="863640" cy="1008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042920" y="476280"/>
            <a:ext cx="7237440" cy="4859280"/>
            <a:chOff x="1042920" y="476280"/>
            <a:chExt cx="7237440" cy="4859280"/>
          </a:xfrm>
        </p:grpSpPr>
        <p:sp>
          <p:nvSpPr>
            <p:cNvPr id="254" name=""/>
            <p:cNvSpPr/>
            <p:nvPr/>
          </p:nvSpPr>
          <p:spPr>
            <a:xfrm>
              <a:off x="1095120" y="528480"/>
              <a:ext cx="7132680" cy="475416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2920" y="476280"/>
              <a:ext cx="7237440" cy="485928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477080" y="5589720"/>
            <a:ext cx="60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1125360"/>
            <a:ext cx="1440000" cy="7192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115920"/>
            <a:ext cx="143964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та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300640"/>
            <a:ext cx="1656000" cy="792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жунга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2133720"/>
            <a:ext cx="1800360" cy="936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боро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789360"/>
            <a:ext cx="1944720" cy="64764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мпбе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4221000"/>
            <a:ext cx="1800360" cy="648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ыкно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244600" cy="3119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0800000">
            <a:off x="3995280" y="4581000"/>
            <a:ext cx="5763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4816400">
            <a:off x="2555640" y="3499920"/>
            <a:ext cx="576360" cy="57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484600">
            <a:off x="2626920" y="1557000"/>
            <a:ext cx="5763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652600">
            <a:off x="5148000" y="765000"/>
            <a:ext cx="576000" cy="576360"/>
          </a:xfrm>
          <a:prstGeom prst="upArrow">
            <a:avLst>
              <a:gd name="adj1" fmla="val 50000"/>
              <a:gd name="adj2" fmla="val 2501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651640" y="2276640"/>
            <a:ext cx="576000" cy="57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7151400">
            <a:off x="5579640" y="3644640"/>
            <a:ext cx="576000" cy="576360"/>
          </a:xfrm>
          <a:prstGeom prst="upArrow">
            <a:avLst>
              <a:gd name="adj1" fmla="val 50000"/>
              <a:gd name="adj2" fmla="val 2501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19640" y="1844640"/>
            <a:ext cx="2373120" cy="2665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6160" y="53737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о-бу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10520" y="57340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уалево-серебрис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83280" y="43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ский мар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8920" y="35733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слоух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55166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нд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3333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ланд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5440" y="3429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ь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404640"/>
            <a:ext cx="17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остае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Гималай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9440" y="404640"/>
            <a:ext cx="14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ор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х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есцов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1800" y="1773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7080" y="1916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6832200">
            <a:off x="3346920" y="4869360"/>
            <a:ext cx="1008360" cy="43200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453400">
            <a:off x="1743840" y="4589280"/>
            <a:ext cx="1582920" cy="431640"/>
          </a:xfrm>
          <a:custGeom>
            <a:avLst/>
            <a:gdLst>
              <a:gd name="textAreaLeft" fmla="*/ 197640 w 1582920"/>
              <a:gd name="textAreaRight" fmla="*/ 1385280 w 1582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427400">
            <a:off x="1763640" y="3573000"/>
            <a:ext cx="1152720" cy="43200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1512800">
            <a:off x="2050560" y="227736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3283400">
            <a:off x="2556000" y="1557000"/>
            <a:ext cx="1008000" cy="43164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391400">
            <a:off x="3996360" y="105264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732000">
            <a:off x="5868000" y="141336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020800">
            <a:off x="6227280" y="2491920"/>
            <a:ext cx="1008360" cy="43200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3429000"/>
            <a:ext cx="865080" cy="431640"/>
          </a:xfrm>
          <a:custGeom>
            <a:avLst/>
            <a:gdLst>
              <a:gd name="textAreaLeft" fmla="*/ 108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798600">
            <a:off x="5940360" y="4221000"/>
            <a:ext cx="1008000" cy="43200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4336200">
            <a:off x="5219640" y="501264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46640" y="2870280"/>
            <a:ext cx="2252520" cy="1119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781360"/>
            <a:ext cx="2050920" cy="115236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Альбино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640"/>
            <a:ext cx="2232000" cy="115272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ь-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404640"/>
            <a:ext cx="1801800" cy="115272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л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Аноми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2205000"/>
            <a:ext cx="1871640" cy="108108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л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черные, кремовы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Шоколадны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ыжи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869000"/>
            <a:ext cx="1944720" cy="108108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гималайска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5373720"/>
            <a:ext cx="2158920" cy="122400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пестры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6918600">
            <a:off x="2951640" y="4472640"/>
            <a:ext cx="1224000" cy="432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1019000">
            <a:off x="2123640" y="3212640"/>
            <a:ext cx="1224000" cy="432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3764000">
            <a:off x="2591640" y="1879920"/>
            <a:ext cx="1224000" cy="432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7919000">
            <a:off x="4896360" y="1737720"/>
            <a:ext cx="1224000" cy="431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025800">
            <a:off x="5796000" y="2781360"/>
            <a:ext cx="1224000" cy="431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838600">
            <a:off x="5399640" y="4329720"/>
            <a:ext cx="1224000" cy="431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695680" cy="201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49360"/>
            <a:ext cx="1655640" cy="86364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оглаз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цве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бела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852640"/>
            <a:ext cx="1366920" cy="5032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тандар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5157720"/>
            <a:ext cx="1366920" cy="5032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м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5229360"/>
            <a:ext cx="2230560" cy="115092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ноглаз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цве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черная, коричнев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елый, бежевы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1440" y="1557360"/>
            <a:ext cx="2122560" cy="7318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ятн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хаски, канюшо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рландска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04640"/>
            <a:ext cx="1584360" cy="5032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ин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8039400">
            <a:off x="2532600" y="4321800"/>
            <a:ext cx="1224000" cy="552600"/>
          </a:xfrm>
          <a:prstGeom prst="rightArrow">
            <a:avLst>
              <a:gd name="adj1" fmla="val 50000"/>
              <a:gd name="adj2" fmla="val 5537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2050560" y="2852280"/>
            <a:ext cx="1297080" cy="576360"/>
          </a:xfrm>
          <a:prstGeom prst="rightArrow">
            <a:avLst>
              <a:gd name="adj1" fmla="val 50000"/>
              <a:gd name="adj2" fmla="val 5626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3432200">
            <a:off x="2488680" y="1670760"/>
            <a:ext cx="1233720" cy="552600"/>
          </a:xfrm>
          <a:prstGeom prst="rightArrow">
            <a:avLst>
              <a:gd name="adj1" fmla="val 50000"/>
              <a:gd name="adj2" fmla="val 55814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246000">
            <a:off x="4706280" y="1495080"/>
            <a:ext cx="1379880" cy="639720"/>
          </a:xfrm>
          <a:prstGeom prst="rightArrow">
            <a:avLst>
              <a:gd name="adj1" fmla="val 50000"/>
              <a:gd name="adj2" fmla="val 5392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768200">
            <a:off x="5724360" y="2565000"/>
            <a:ext cx="1409760" cy="552600"/>
          </a:xfrm>
          <a:prstGeom prst="rightArrow">
            <a:avLst>
              <a:gd name="adj1" fmla="val 50000"/>
              <a:gd name="adj2" fmla="val 6377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553000">
            <a:off x="5487480" y="4459320"/>
            <a:ext cx="1125720" cy="552240"/>
          </a:xfrm>
          <a:prstGeom prst="rightArrow">
            <a:avLst>
              <a:gd name="adj1" fmla="val 50000"/>
              <a:gd name="adj2" fmla="val 5096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орская сви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ейство Свинк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на - Южная Амер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 тела овальная, густая шерсть, шея короткая, мордочка овальная, хвоста нет, короткие но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ельность жизни: 8-1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210440" y="82440"/>
            <a:ext cx="1917720" cy="2562480"/>
            <a:chOff x="7210440" y="82440"/>
            <a:chExt cx="1917720" cy="2562480"/>
          </a:xfrm>
        </p:grpSpPr>
        <p:sp>
          <p:nvSpPr>
            <p:cNvPr id="125" name=""/>
            <p:cNvSpPr/>
            <p:nvPr/>
          </p:nvSpPr>
          <p:spPr>
            <a:xfrm rot="526200">
              <a:off x="7396920" y="205920"/>
              <a:ext cx="1544040" cy="231552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26200">
              <a:off x="7380000" y="188640"/>
              <a:ext cx="1577880" cy="2349360"/>
            </a:xfrm>
            <a:custGeom>
              <a:avLst/>
              <a:gdLst/>
              <a:ahLst/>
              <a:rect l="l" t="t" r="r" b="b"/>
              <a:pathLst>
                <a:path w="2041" h="3039">
                  <a:moveTo>
                    <a:pt x="1861" y="0"/>
                  </a:moveTo>
                  <a:lnTo>
                    <a:pt x="2041" y="179"/>
                  </a:lnTo>
                  <a:lnTo>
                    <a:pt x="2041" y="2859"/>
                  </a:lnTo>
                  <a:lnTo>
                    <a:pt x="1861" y="3039"/>
                  </a:lnTo>
                  <a:lnTo>
                    <a:pt x="179" y="3039"/>
                  </a:lnTo>
                  <a:lnTo>
                    <a:pt x="0" y="2859"/>
                  </a:lnTo>
                  <a:lnTo>
                    <a:pt x="0" y="179"/>
                  </a:lnTo>
                  <a:lnTo>
                    <a:pt x="179" y="0"/>
                  </a:lnTo>
                  <a:lnTo>
                    <a:pt x="2041" y="0"/>
                  </a:lnTo>
                  <a:lnTo>
                    <a:pt x="2041" y="3039"/>
                  </a:lnTo>
                  <a:lnTo>
                    <a:pt x="0" y="30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560" y="254520"/>
            <a:ext cx="2107440" cy="2389680"/>
            <a:chOff x="61560" y="254520"/>
            <a:chExt cx="2107440" cy="2389680"/>
          </a:xfrm>
        </p:grpSpPr>
        <p:sp>
          <p:nvSpPr>
            <p:cNvPr id="128" name=""/>
            <p:cNvSpPr/>
            <p:nvPr/>
          </p:nvSpPr>
          <p:spPr>
            <a:xfrm rot="20916000">
              <a:off x="268920" y="419760"/>
              <a:ext cx="1691280" cy="20592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916000">
              <a:off x="250920" y="404640"/>
              <a:ext cx="1728720" cy="2089440"/>
            </a:xfrm>
            <a:custGeom>
              <a:avLst/>
              <a:gdLst/>
              <a:ahLst/>
              <a:rect l="l" t="t" r="r" b="b"/>
              <a:pathLst>
                <a:path w="2041" h="3039">
                  <a:moveTo>
                    <a:pt x="1861" y="0"/>
                  </a:moveTo>
                  <a:lnTo>
                    <a:pt x="2041" y="179"/>
                  </a:lnTo>
                  <a:lnTo>
                    <a:pt x="2041" y="2859"/>
                  </a:lnTo>
                  <a:lnTo>
                    <a:pt x="1861" y="3039"/>
                  </a:lnTo>
                  <a:lnTo>
                    <a:pt x="179" y="3039"/>
                  </a:lnTo>
                  <a:lnTo>
                    <a:pt x="0" y="2859"/>
                  </a:lnTo>
                  <a:lnTo>
                    <a:pt x="0" y="179"/>
                  </a:lnTo>
                  <a:lnTo>
                    <a:pt x="179" y="0"/>
                  </a:lnTo>
                  <a:lnTo>
                    <a:pt x="2041" y="0"/>
                  </a:lnTo>
                  <a:lnTo>
                    <a:pt x="2041" y="3039"/>
                  </a:lnTo>
                  <a:lnTo>
                    <a:pt x="0" y="30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55166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2997360"/>
            <a:ext cx="2305080" cy="129672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924280"/>
            <a:ext cx="2592360" cy="136836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052640"/>
            <a:ext cx="1366560" cy="865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052640"/>
            <a:ext cx="1368360" cy="865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1989000"/>
            <a:ext cx="289080" cy="863640"/>
          </a:xfrm>
          <a:prstGeom prst="upArrow">
            <a:avLst>
              <a:gd name="adj1" fmla="val 50000"/>
              <a:gd name="adj2" fmla="val 7468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420800">
            <a:off x="3116160" y="1770120"/>
            <a:ext cx="287280" cy="1147680"/>
          </a:xfrm>
          <a:prstGeom prst="upArrow">
            <a:avLst>
              <a:gd name="adj1" fmla="val 50000"/>
              <a:gd name="adj2" fmla="val 9987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059400">
            <a:off x="5085720" y="4526280"/>
            <a:ext cx="1436760" cy="866880"/>
          </a:xfrm>
          <a:custGeom>
            <a:avLst/>
            <a:gdLst>
              <a:gd name="textAreaLeft" fmla="*/ 179640 w 1436760"/>
              <a:gd name="textAreaRight" fmla="*/ 1257480 w 1436760"/>
              <a:gd name="textAreaTop" fmla="*/ 216720 h 866880"/>
              <a:gd name="textAreaBottom" fmla="*/ 6501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4187600">
            <a:off x="2898720" y="4538520"/>
            <a:ext cx="1342800" cy="863640"/>
          </a:xfrm>
          <a:custGeom>
            <a:avLst/>
            <a:gdLst>
              <a:gd name="textAreaLeft" fmla="*/ 167760 w 1342800"/>
              <a:gd name="textAreaRight" fmla="*/ 1175040 w 134280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81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284640"/>
            <a:ext cx="6119640" cy="24462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обид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кой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олюби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топлот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рихотл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1516800">
            <a:off x="4932000" y="2060280"/>
            <a:ext cx="4067280" cy="181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rot="20380200">
            <a:off x="347760" y="1486080"/>
            <a:ext cx="33004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52:12Z</dcterms:created>
  <dc:creator>ASUS_F80CR</dc:creator>
  <dc:description/>
  <dc:language>en-US</dc:language>
  <cp:lastModifiedBy>студент</cp:lastModifiedBy>
  <dcterms:modified xsi:type="dcterms:W3CDTF">2010-05-22T10:19:15Z</dcterms:modified>
  <cp:revision>10</cp:revision>
  <dc:subject/>
  <dc:title>Многообразие и характеристика мелких млекопитающих</dc:title>
</cp:coreProperties>
</file>